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FFA-BD46-479A-A2EA-F3DCA3E2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049-E730-4003-912A-286FC5CC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91D-36F2-4383-BC11-16884EEA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6EB-04AF-45CE-A55F-C36D3D78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5E4-9045-4CAC-8D78-0D051A1A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08B-44A7-41B9-AE36-4BB35CCD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669-1D7E-424D-A3BB-45AB4CB1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10B-97A0-42CF-A4AD-D0ED266F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8DE-88F0-4DBE-83A7-07A4CFF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DF3-B432-48E7-B126-2286EED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5E5-AB59-42A4-AE16-27EA4C2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2FB-30C7-4F31-A7C0-8FF20EE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AC07-57A2-4BAA-A8DB-4C0453219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52480" y="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ΟΔΗΓΙ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SO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09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i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ΦΕΚ376Β/19-3-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ΣΚΟΠΟΣ: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ΠΡΟΛΗΨΗ ΚΑΙ ΑΝΤΙΜΕΤΩΠΙΣΗ ΒΙΟΜΗΧΑΝΙΚΩΝ ΑΤΥΧΗΜΑΤΩΝ ΜΕΓΑΛΗΣ ΕΚΤΑΣΗΣ ΑΠΟ ΕΓΚΑΤΑΣΤΑΣΕΙΣ ΠΟΥ ΔΙΑΧΕΙΡΙΖΟΝΤΑΙ 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ΠΙΚΙΝΔΥΝΕΣ ΟΥΣΙ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2924280"/>
            <a:ext cx="565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Χαρακτηρισμός επικινδύνων ουσι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Χαρακτηριστικά ΒΑΜ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εριεχόμενα Μελέτης Ασφαλε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2480" y="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ΟΔΗΓΙ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SO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09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i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ΦΕΚ376Β/19-3-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ΣΚΟΠΟΣ: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ΠΡΟΛΗΨΗ ΚΑΙ ΑΝΤΙΜΕΤΩΠΙΣΗ ΒΙΟΜΗΧΑΝΙΚΩΝ ΑΤΥΧΗΜΑΤΩΝ ΜΕΓΑΛΗΣ ΕΚΤΑΣΗΣ ΑΠΟ ΕΓΚΑΤΑΣΤΑΣΕΙΣ ΠΟΥ ΔΙΑΧΕΙΡΙΖΟΝΤΑΙ 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ΠΙΚΙΝΔΥΝΕΣ ΟΥΣΙ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280" y="37339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2280" y="5029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495680" y="244944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506840" y="38098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495680" y="502920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52280" y="6183360"/>
            <a:ext cx="674640" cy="67464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914400" y="2590920"/>
            <a:ext cx="5356080" cy="457200"/>
            <a:chOff x="914400" y="2590920"/>
            <a:chExt cx="5356080" cy="457200"/>
          </a:xfrm>
        </p:grpSpPr>
        <p:sp>
          <p:nvSpPr>
            <p:cNvPr id="77" name=""/>
            <p:cNvSpPr/>
            <p:nvPr/>
          </p:nvSpPr>
          <p:spPr>
            <a:xfrm>
              <a:off x="914400" y="2590920"/>
              <a:ext cx="86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n | X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81280" y="2590920"/>
              <a:ext cx="448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Βλαβερό | Ερεθιστικό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Harmful | Irrit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28600" y="3886200"/>
            <a:ext cx="5354640" cy="457200"/>
            <a:chOff x="228600" y="3886200"/>
            <a:chExt cx="5354640" cy="457200"/>
          </a:xfrm>
        </p:grpSpPr>
        <p:sp>
          <p:nvSpPr>
            <p:cNvPr id="80" name=""/>
            <p:cNvSpPr/>
            <p:nvPr/>
          </p:nvSpPr>
          <p:spPr>
            <a:xfrm>
              <a:off x="228600" y="3886200"/>
              <a:ext cx="77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06560" y="3886200"/>
              <a:ext cx="739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46360" y="3886200"/>
              <a:ext cx="383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Διαβρωτικό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rros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28600" y="5105520"/>
            <a:ext cx="5354640" cy="457200"/>
            <a:chOff x="228600" y="5105520"/>
            <a:chExt cx="5354640" cy="457200"/>
          </a:xfrm>
        </p:grpSpPr>
        <p:sp>
          <p:nvSpPr>
            <p:cNvPr id="84" name=""/>
            <p:cNvSpPr/>
            <p:nvPr/>
          </p:nvSpPr>
          <p:spPr>
            <a:xfrm>
              <a:off x="228600" y="5105520"/>
              <a:ext cx="77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06560" y="5105520"/>
              <a:ext cx="739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 | T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46360" y="5105520"/>
              <a:ext cx="383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Τοξικό | Πολύ τοξικό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oxic | Very tox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04920" y="6095880"/>
            <a:ext cx="5354640" cy="457200"/>
            <a:chOff x="304920" y="6095880"/>
            <a:chExt cx="5354640" cy="457200"/>
          </a:xfrm>
        </p:grpSpPr>
        <p:sp>
          <p:nvSpPr>
            <p:cNvPr id="88" name=""/>
            <p:cNvSpPr/>
            <p:nvPr/>
          </p:nvSpPr>
          <p:spPr>
            <a:xfrm>
              <a:off x="304920" y="6095880"/>
              <a:ext cx="77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82880" y="6095880"/>
              <a:ext cx="739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2680" y="6095880"/>
              <a:ext cx="383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Επικίνδυνο για το Περιβάλλον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angerous for the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419720" y="2666880"/>
            <a:ext cx="5354640" cy="457200"/>
            <a:chOff x="4419720" y="2666880"/>
            <a:chExt cx="5354640" cy="457200"/>
          </a:xfrm>
        </p:grpSpPr>
        <p:sp>
          <p:nvSpPr>
            <p:cNvPr id="92" name=""/>
            <p:cNvSpPr/>
            <p:nvPr/>
          </p:nvSpPr>
          <p:spPr>
            <a:xfrm>
              <a:off x="4419720" y="2666880"/>
              <a:ext cx="77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97680" y="2666880"/>
              <a:ext cx="739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 | F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7480" y="2666880"/>
              <a:ext cx="383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Πολύ εύφλεκτο|Εξαιρετικά εύφλεκτο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Highly or Extremely Flamm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572000" y="3962520"/>
            <a:ext cx="5354640" cy="457200"/>
            <a:chOff x="4572000" y="3962520"/>
            <a:chExt cx="5354640" cy="457200"/>
          </a:xfrm>
        </p:grpSpPr>
        <p:sp>
          <p:nvSpPr>
            <p:cNvPr id="96" name=""/>
            <p:cNvSpPr/>
            <p:nvPr/>
          </p:nvSpPr>
          <p:spPr>
            <a:xfrm>
              <a:off x="4572000" y="3962520"/>
              <a:ext cx="77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49960" y="3962520"/>
              <a:ext cx="739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9760" y="3962520"/>
              <a:ext cx="383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Εκρηκτικό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xplos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572000" y="5181480"/>
            <a:ext cx="5354640" cy="457200"/>
            <a:chOff x="4572000" y="5181480"/>
            <a:chExt cx="5354640" cy="457200"/>
          </a:xfrm>
        </p:grpSpPr>
        <p:sp>
          <p:nvSpPr>
            <p:cNvPr id="100" name=""/>
            <p:cNvSpPr/>
            <p:nvPr/>
          </p:nvSpPr>
          <p:spPr>
            <a:xfrm>
              <a:off x="4572000" y="5181480"/>
              <a:ext cx="77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49960" y="5181480"/>
              <a:ext cx="739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89760" y="5181480"/>
              <a:ext cx="383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Οξειδωτικό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57240"/>
            <a:ext cx="73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248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6400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1/QU1 +q2/QU2 +q3/QU3 +q4/QU4 +q5/QU5 +…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......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5640" y="981000"/>
            <a:ext cx="81010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Τα βασικά χαρακτηριστικά των ΒΑΜΕ είναι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Μεγάλος αριθμός νεκρών και τραυματιώ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Μεγάλη πιθανότητα επέκτασης των επιπτώσεων και εκτός του χώρου μια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εγκατάστα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Αρκετές φορές απαιτείται η εκκένωση πληθυσμού σε μεγάλη απόσταση γύρ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από το ατύχημ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Για την αντιμετώπιση απαιτείται η συνεργασία πολλών ομάδων παρέμβαση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Διατάραξη του κανονικού ρυθμού ζωή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Καταστροφικές επιπτώσεις για το περιβάλλο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 Οικονομικές επιπτώσει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75200" y="1015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ΧΑΡΑΚΤΗΡΙΣΤΙΚΑ ΒΑΜΕ – 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620640"/>
            <a:ext cx="85345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75200" y="1015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ΧΑΡΑΚΤΗΡΙΣΤΙΚΑ ΒΑΜΕ – 2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1268280"/>
            <a:ext cx="8675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Θερμική ακτινοβολία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και υπολογίζεται ως θερμική ροή σε σχέση με τη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απόσταση από την πηγή (ΚW/m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0066"/>
                </a:solidFill>
                <a:latin typeface="Arial"/>
              </a:rPr>
              <a:t>Ω</a:t>
            </a: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στικό κύμα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και υπολογίζεται ως υπερπίεση που παράγεται σε σχέση με την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απόσταση από την έκρηξη (kP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Τοξικότητα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θεωρείται η παρουσία τοξικών ουσιών στον αέρα και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υπολογίζεται ως συγκέντρωση σε σχέση με την απόσταση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836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Επιπτώσεις ΒΑΜ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062240"/>
            <a:ext cx="914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0066"/>
                </a:solidFill>
                <a:latin typeface="Arial"/>
              </a:rPr>
              <a:t>ΖΩΝΗ 1: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Προστασία των δυνάμεων καταστολής – πρόκληση πιθανών θανάτω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0066"/>
                </a:solidFill>
                <a:latin typeface="Arial"/>
              </a:rPr>
              <a:t>ΖΩΝΗ 2: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Προστασίας του πληθυσμού απο σοβαρές επιπτώσει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0066"/>
                </a:solidFill>
                <a:latin typeface="Arial"/>
              </a:rPr>
              <a:t>ΖΩΝΗ3: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Προστασία του πληθυσμού απο μέτριες επιπτώσει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0066"/>
                </a:solidFill>
                <a:latin typeface="Arial"/>
              </a:rPr>
              <a:t>ΖΩΝΗ 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DOMINO</a:t>
            </a:r>
            <a:r>
              <a:rPr b="1" lang="el-GR" sz="22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Επέκταση αρχικών σεναρίων σε γειτονικές εγκαταστάσει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75200" y="1015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ΧΑΡΑΚΤΗΡΙΣΤΙΚΑ ΒΑΜΕ – 3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1268280"/>
            <a:ext cx="813600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Η ΕΤΑΙΡΙΑ, µέσω της Μελέτης Ασφάλειας, να αποδείξει ότι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έχει καθορίσει Πολιτική Πρόληψης Μεγάλων Ατυχηµάτων 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έχει υιοθετήσει συγκεκριµένο Σύστηµα 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ιαχείρισης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Ασφάλεια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έχει εντοπίσει τους κινδύνους πρόκλησης Μεγάλων Ατυχηµάτω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έχει πάρει τα απαραίτητα µέτρα για να αποτρέψει και για να περιορίσει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τις συνέπειές τους για τον άνθρωπο και το περιβάλλον, εφόσον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συµβού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2400" y="101520"/>
            <a:ext cx="47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ΛΕΤΗ ΑΣΦΑΛΕΙΑΣ – 1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374840"/>
            <a:ext cx="9144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Ρόλοι και αρµοδιότητες του προσωπικού (Εκπαίδευση, Εργολάβο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Θέσπιση και εφαρµογή διαδικασιών για το συστηµατικό προσδιορισµ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κινδύνω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µεγάλου ατυχήµ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Θέσπιση και εφαρµογή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διαδικασιών και οδηγιών για την ασφαλή λειτουργία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τη συντήρηση της εγκατάστασης, τις διεργασίες, τον εξοπλισµ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και τι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διαδικασίες προσωρι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ής διακοπή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της λειτουργίας της εγκατάσταση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47960" y="101520"/>
            <a:ext cx="739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ΛΕΤΗ ΑΣΦΑΛΕΙ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ΥΣΤΗΜΑ ΔΙΑΧΕΙΡΗΣΗΣ ΑΣΦΑΛΕΙΑΣ -  2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1413000"/>
            <a:ext cx="899136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Θέσπιση και εφαρµογή διαδικασιών για το σχεδιασµό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τροποποιήσεων ή/και το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σχεδιασµό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νέων εγκαταστάσεων, διεργασιών και αποθηκευτικών χώρω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Θέσπιση και εφαρµογή διαδικασιών για το προσδιορισµό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προβλέψεων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κατάστασης έκτακτης ανάγκης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Θέσπιση και εφαρµογή διαδικασιών για τη συνεχή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αξιολόγησ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Θέσπιση και εφαρµογή διαδικασιών για τη περιοδική συστηµατική αξιολόγησ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47960" y="101520"/>
            <a:ext cx="739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ΛΕΤΗ ΑΣΦΑΛΕΙ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ΥΣΤΗΜΑ ΔΙΑΧΕΙΡΗΣΗΣ ΑΣΦΑΛΕΙΑΣ -  3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828800"/>
            <a:ext cx="74678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Παράμετροι αδειοδότησης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δος επιχείρη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Χρήσεις γης/ΒΙΠ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Περιβαλλοντική αδειοδότηση (ΠΠΕΑ &amp; ΕΠΟ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Κατηγοριοποίηση &amp; Μ.Π.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ικοδομική άδε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υρασφάλε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Οδηγία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V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808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ΔΕΙΟΔΟΤΗΣ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ΒΙΟΜΗΧΑΝΙΚΩΝ – ΒΙΟΤΕΧΝΙΚΩΝ ΕΠΙΧΕΙΡΗΣΕ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ΦΩΤ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ΡΗΞ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ΣΜ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ΡΟΜΟΚΡΑΤΙΚΗ ΕΝΕΡΓΕ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ΝΑΡΙΟ ΑΤΥΧΗΜΑΤΟΣ ΑΠΟ ΑΝΑΛΥΣΗ ΕΠΙΚΙΝΔΥΝΟΤΗΤ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1960" y="101520"/>
            <a:ext cx="83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ΛΕΤΗ ΑΣΦΑΛΕΙ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ΣΩΤΕΡΙΚΟ ΣΧΕΔΙΟ ΕΚΤΑΚΤΗΣ ΑΝΑΓΚΗΣ -  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41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ΑΤΑΜΕ (ΣΧΕΔΙΟ ΑΝΤΙΜΕΤΩΠΙΣΗΣ ΤΕΧΝΟΛΟΓΙΚΟΥ ΑΤΥΧΗΜΑΤΟΣ ΜΕΓΑΛΗΣ ΕΚΤΑ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344680"/>
            <a:ext cx="88390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Η εταιρία παρέχει τις πληροφορίε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Η Υπηρεσία Πολιτικής Προστασίας µεριµνά ώστ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Να καταρτίσει το σχέδι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Να ζητείται η γνώµη του κοινού για το σχέδι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Να πραγµατοποιούνται ασκήσεις ετοιµότητας σε συνεργασία µε την εταιρία για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εφαρµογή και εκπαίδευ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Επανεξέταση, δοκιµή, αναθεώρηση κάθε 3 έτ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960" y="101520"/>
            <a:ext cx="83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ΛΕΤΗ ΑΣΦΑΛΕΙ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ΣΩΤΕΡΙΚΟ ΣΧΕΔΙΟ ΕΚΤΑΚΤΗΣ ΑΝΑΓΚΗΣ -  5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1341360"/>
            <a:ext cx="8028000" cy="48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Y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15393/2332/20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άταξη έργ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Έργα οδοποιϊα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Υδραυλικά έργ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Λιμενικά Έργ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Συστήματα Υποδομώ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Εξορυκτικές και συναφείς δραστηριότητε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Τουριστικές εγκαταστάσεις – Εργασίες Πολεοδομία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Κτηνοτροφικές και Πτηνοτροφικές Εγκατατάσει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Υδατοκαλλιέργειε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ff0066"/>
              </a:buClr>
              <a:buFont typeface="Arial"/>
              <a:buAutoNum type="arabicPeriod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0066"/>
                </a:solidFill>
                <a:latin typeface="Arial"/>
              </a:rPr>
              <a:t>Βιομηχανικές Εγκαταστάσει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l-GR" sz="2200" spc="-1" strike="noStrike">
                <a:solidFill>
                  <a:srgbClr val="ff0066"/>
                </a:solidFill>
                <a:latin typeface="Arial"/>
              </a:rPr>
              <a:t>και Εργασίες διαρύθμισης Βιομηχανικής Ζώνη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10. Ειδικά Έργ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06200"/>
            <a:ext cx="72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ΡΙΒΑΛΛΟΝΤΙΚΗ ΑΔΕΙΟΔΟΤ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Κατηγοριοποίηση - 1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401840"/>
            <a:ext cx="8317080" cy="57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Ν. 3010/20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ιάκριση έργων σε 3 κατηγορί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9900"/>
                </a:solidFill>
                <a:latin typeface="Arial"/>
              </a:rPr>
              <a:t>Κατηγορία Α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ργα που λόγω φύσης, μεγέθους, έκτασης είναι δυνατό να προκαλέσουν σοβαρές επιπτώσεις στο περιβάλλο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Υποκατηγορίες Α1 &amp; Α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9900"/>
                </a:solidFill>
                <a:latin typeface="Arial"/>
              </a:rPr>
              <a:t>Κατηγορία Β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ργα που χωρίς να προκαλούν σοβαρές επιπτώσεις πρέπει να υποβάλλονται σε γενικές προδιαγραφές – περιορισμού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Υποκατηγορίες Β3 &amp; Β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9900"/>
                </a:solidFill>
                <a:latin typeface="Arial"/>
              </a:rPr>
              <a:t>(Κατηγορία Γ: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Έργα που προκαλούν μικρές επιπτώσεις στο περιβάλλο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106200"/>
            <a:ext cx="72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ΡΙΒΑΛΛΟΝΤΙΚΗ ΑΔΕΙΟΔΟΤ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Κατηγοριοποίηση - 2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197000"/>
            <a:ext cx="7920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Υποκατηγορία Α1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ρομελέτη περιβαλλοντικων επιπτώ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ρμόδια υπηρεσία για έκδοση Έγκρισης Περιβαλλοντικών όρων ΥΠΕΧΩΔ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παίτειται μελετητικό πτυχίο για Περιβαλλοντικές μελέτες κατηγορία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3978360"/>
            <a:ext cx="817236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Υποκατηγορία Α2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ρομελέτη περιβαλλοντικων επιπτώ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ρμόδια υπηρεσία για έκδοση Έγκρισης Περιβαλλοντικών όρων Περιφέρε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παίτειται μελετητικό πτυχίο για Περιβαλλοντικές μελέτες κατηγορία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06200"/>
            <a:ext cx="72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ΡΙΒΑΛΛΟΝΤΙΚΗ ΑΔΕΙΟΔΟΤ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Κατηγοριοποίηση - 3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77880"/>
            <a:ext cx="8839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Κατηγορία  Β Υποκατηγορία τρία  (Β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ατάθεση ΠΠΕ στην Περιφέρε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ατάταξη σε κατηγορία Α2 ή Β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παίτειται μελετητικό πτυχίο για Περιβαλλοντικές μελέτες κατηγορία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86080"/>
            <a:ext cx="914400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Κατηγορία  Β Υποκατηγορία τέσσερα  (Β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ατάθεση και απόφαση Έγκρισης Περιβαλλοντικώ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όρων από την Νομαρχ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ΔΕΝ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απαίτειται μελετητικό πτυχίο για Περιβαλλοντικές μελέτες κατηγορία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06200"/>
            <a:ext cx="72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ΡΙΒΑΛΛΟΝΤΙΚΗ ΑΔΕΙΟΔΟΤ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Κατηγοριοποίηση - 4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557360"/>
            <a:ext cx="83818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1. ΟΝΟΜΑΣΙΑ ΚΑΙ ΕΙΔΟΣ ΕΡΓΟΥ ΚΑΙ ΔΡΑΣΤΗΡΙΟΤΗΤΑ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2. ΓΕΩΓΡΑΦΙΚΗ ΘΕΣΗ-ΕΚΤΑΣ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3. ΠΕΡΙΓΡΑΦΗ ΠΕΡΙΒΑΛΛΟΝΤΟ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Φυσικό Περιβάλλον (οικοσυστήματα, έδαφος, μετεωρολογικά στοιχεία, χλωρίδα, πανίδα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Ανθρωπογενές περιβάλλον (οικισμοί της περιοχής, παραγωγικοί τομείς, φυσικοί πόροι, υποδομ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106200"/>
            <a:ext cx="72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ΡΙΒΑΛΛΟΝΤΙΚΗ ΑΔΕΙΟΔΟΤ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.Π.Ε. - 1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1557360"/>
            <a:ext cx="830556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4. ΠΕΡΙΓΡΑΦΗ ΕΡΓΟΥ Η ΔΡΑΣΤΗΡΙΟΤΗΤΑ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Χαρακτηρισμός κτισμάτων, δεξαμενώ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Λειτουργία –απασχολούμενο προσωπικ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Πρώτες ύλες - Προιόντα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Παραγωγική διαδικασί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Χρήσεις νερού και ενέργεια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Αέρια απόβλητ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Υγρά απόβλητ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Στερεά απόβλητ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Θόρυβο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06200"/>
            <a:ext cx="72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ΡΙΒΑΛΛΟΝΤΙΚΗ ΑΔΕΙΟΔΟΤ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.Π.Ε. - 2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6244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844640"/>
            <a:ext cx="89154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5. ΑΝΤΙΜΕΤΩΠΙΣΗ ΠΕΡΙΒΑΛΛΟΝΤΙΚΩΝ ΕΠΙΠΤΩΣΕΩ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Μέτρα προστασία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Τεχνικά χαρακτηριστικα συστημάτων αντιρύπανση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6. ΧΑΡΤΕ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06200"/>
            <a:ext cx="72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ΡΙΒΑΛΛΟΝΤΙΚΗ ΑΔΕΙΟΔΟΤ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.Π.Ε. - 3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13:19:17Z</dcterms:created>
  <dc:creator>Vicky</dc:creator>
  <dc:description/>
  <dc:language>en-US</dc:language>
  <cp:lastModifiedBy> Marc J. ASSAEL</cp:lastModifiedBy>
  <dcterms:modified xsi:type="dcterms:W3CDTF">2008-02-25T13:01:31Z</dcterms:modified>
  <cp:revision>59</cp:revision>
  <dc:subject/>
  <dc:title>PowerPoint Presentation</dc:title>
</cp:coreProperties>
</file>